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203-3277-455B-8DB4-80449159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549-18DA-4FB6-AE22-29BB240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B0C-7AC6-4214-B4DC-F940EFE2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77C-4EBD-46C4-A621-B02AD814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F321-4DB7-453C-9CC0-E8D3514B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3C6-9931-48C5-AC96-30CE452A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C65-EF9F-441A-BB1B-4562C788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C3D-2396-4D22-8418-7407398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130F-B067-411D-96A4-4CEC6C2E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09C8-0B2F-47AB-8797-51C08A57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BA77-5433-42CF-9570-16930B2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73C-C8F4-4E96-80A4-CDD9A020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A3F5-1013-4DF2-9817-F4AF935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5D5-2B2D-4AFA-A939-02393A4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8F2C-39D7-4C01-80A1-96BA35A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8F73-D9F4-4D5A-8012-3258E35D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405-2F88-4C50-B382-DEBB065A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DCA-5585-480C-B4D3-0B9FDF83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4FC-4C81-4E16-9F03-BD8343C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E7E-D0B1-4A51-B20C-C589F53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B70-090A-4174-B182-3C08D07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9F1-E0F0-4DCE-9D61-39D0F0C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976-8A02-42B5-8479-75E901DE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431-AC2F-4337-ABDA-B36D1FAF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6C36-7117-4A57-B7A8-758EA4F508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54C-8F3D-4BED-9B8C-19F65EEC1D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odak.com/US/en/digital/dlc/index.html" TargetMode="External"/><Relationship Id="rId2" Type="http://schemas.openxmlformats.org/officeDocument/2006/relationships/hyperlink" Target="http://coe.sdsu.edu/eet/articles/projectors/index.htm" TargetMode="External"/><Relationship Id="rId3" Type="http://schemas.openxmlformats.org/officeDocument/2006/relationships/hyperlink" Target="http://www.buyplusdirect.com/site/product/endorsements.html#classroo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mio.com/" TargetMode="External"/><Relationship Id="rId2" Type="http://schemas.openxmlformats.org/officeDocument/2006/relationships/hyperlink" Target="http://www.dell.com/" TargetMode="External"/><Relationship Id="rId3" Type="http://schemas.openxmlformats.org/officeDocument/2006/relationships/hyperlink" Target="http://www.education-world.com/a_tech/tech/tech195.s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cytech.org/java/patterns/patterns_j.shtml" TargetMode="External"/><Relationship Id="rId2" Type="http://schemas.openxmlformats.org/officeDocument/2006/relationships/hyperlink" Target="http://arcytech.org/java/patterns/patterns_j.shtml" TargetMode="External"/><Relationship Id="rId3" Type="http://schemas.openxmlformats.org/officeDocument/2006/relationships/hyperlink" Target="http://www.iknowthat.com/com" TargetMode="External"/><Relationship Id="rId4" Type="http://schemas.openxmlformats.org/officeDocument/2006/relationships/hyperlink" Target="http://www.kidshealth.org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frontrow.com/e/stories.asp" TargetMode="External"/><Relationship Id="rId2" Type="http://schemas.openxmlformats.org/officeDocument/2006/relationships/hyperlink" Target="http://www.gofrontrow.com/e/stories.asp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chnology in the K – 2 Classro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ing the Learning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49604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mart Boa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ractive “chalk” boa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s a world of information lear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es several learning sty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s a child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smarttech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n Periph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s any whiteboard into an interactive teaching too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rge variety of options – Mimio, Dell tablet, Smart Board Airliner are just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existing hardware and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s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828960" cy="24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esources and websi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o find more information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amera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kodak.com/US/en/digital/dlc/index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wam.umd.edu/~toh/image/DigitialCameraUse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or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coe.sdsu.edu/eet/articles/projectors/index.ht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buyplusdirect.com/site/product/endorsements.html#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esources and websi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t’d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 peripher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mimio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dell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learning forum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ducation-world.com/a_tech/tech/tech195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ternet sites that are helpful for learn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rcytech.org/java/patterns/patterns_j.s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ubject area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iknowthat.com/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: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kidshealth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district16.nbed.nb.ca/science/Institute/institute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World:  http://www.education-world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vailabl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round Sound Systems and Micro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 and video players (VHS or DV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/Video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Bo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 periph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V and Video Play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enhance lesson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s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ngexplorers.com/search.asp?SKW=books+cds&amp;TKW=YE12&amp;GEN1=Books+/+Videos+/+DVD's+/+CD'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urricula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reward class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50208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462480" cy="259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624120" cy="2732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be used to visually show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see information to underst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y to set u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uter hook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gital and Video Camer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201840" cy="218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record information and memo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enhance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kids to be creative and expands the imag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district16.nbed.nb.ca/science/Institute/multimedi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ds love th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581640" cy="22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round Sound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 Row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at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the voice lou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frien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114800" cy="3430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33960" y="3809880"/>
            <a:ext cx="4010040" cy="27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urround Sound Systems cont’d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s every single child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not learn what they do not he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frontrow.com/e/stories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733560" cy="2489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854440" cy="289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round Sound System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038480" cy="421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95680" cy="35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uters and Intern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uppor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different learning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iknowthat.com/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514680" cy="2863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88620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7:43:56Z</dcterms:created>
  <dc:creator>nbdoe</dc:creator>
  <dc:description/>
  <dc:language>en-US</dc:language>
  <cp:lastModifiedBy>nbdoe</cp:lastModifiedBy>
  <dcterms:modified xsi:type="dcterms:W3CDTF">2007-02-28T21:40:39Z</dcterms:modified>
  <cp:revision>26</cp:revision>
  <dc:subject/>
  <dc:title>Technology in the K – 2 Classroom</dc:title>
</cp:coreProperties>
</file>